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FE4BA-3B3E-45BE-89A8-7D9709AA8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A2261-DEC2-4869-95E0-B4D464D21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92592-9493-452E-B502-0E43881FE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AF75B-A2F0-4BD4-BD56-AD003D3DD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E1B8C-0DAE-45C1-A2B9-5245A914F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2782E-6833-45CE-AFCB-5B7AD441E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E9FB4-0285-41B9-8A49-55DB8AAA1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FB02C-E066-480C-8EBA-D800DF0CB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9EC3F-1A47-47E7-95E6-565F21813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AD72C-FA0E-458C-8EAE-71E039C80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A0B92-025B-45BA-8970-FA9FF2D4D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F6DD7-7990-481E-A8AC-EEEF1DFDAB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D1988-0140-40E4-BD57-A75F3E69B3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04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1447920" y="9144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1752480" y="3657600"/>
            <a:ext cx="5238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esiunea Iunie - Iulie</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8" name="Picture 8" descr="comp_i"/>
          <p:cNvPicPr/>
          <p:nvPr/>
        </p:nvPicPr>
        <p:blipFill>
          <a:blip r:embed="rId1"/>
          <a:stretch/>
        </p:blipFill>
        <p:spPr>
          <a:xfrm>
            <a:off x="5715000" y="1600200"/>
            <a:ext cx="3067200" cy="3067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7"/>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zentăm mai jos câteva exemple de itemi din unele teste de inteligenţă.</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re este numărul care lipseşte din al treilea şir </a:t>
            </a:r>
            <a:r>
              <a:rPr b="0" lang="en-GB"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b3s10</cp:lastModifiedBy>
  <dcterms:modified xsi:type="dcterms:W3CDTF">2012-06-18T11:33:48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